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22-04-20T14:36:19.738000000" idx="1">
    <p:pos x="6342" y="947"/>
    <p:text/>
  </p:cm>
  <p:cm authorId="0" dt="2022-04-20T14:47:12.038000000" idx="2">
    <p:pos x="5609" y="967"/>
    <p:text/>
  </p:cm>
  <p:cm authorId="0" dt="2022-04-20T14:52:55.442000000" idx="3">
    <p:pos x="5745" y="1103"/>
    <p:text/>
  </p:cm>
</p:cmLst>
</file>

<file path=ppt/comments/comment5.xml><?xml version="1.0" encoding="utf-8"?>
<p:cmLst xmlns:p="http://schemas.openxmlformats.org/presentationml/2006/main">
  <p:cm authorId="0" dt="2022-04-20T11:29:58.337000000" idx="4">
    <p:pos x="6031" y="1214"/>
    <p:text/>
  </p:cm>
  <p:cm authorId="0" dt="2022-04-20T11:36:48.546000000" idx="5">
    <p:pos x="6167" y="135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371240" y="960120"/>
            <a:ext cx="41101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172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000"/>
            <a:ext cx="2966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12F83D3-E83E-4CF7-A856-95F659DE57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7495698-9DAE-4571-8382-47B376F15F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BB7DC3F-1482-4FF0-9E1A-A420872ED4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95F352F-646F-477B-A494-9628488BDF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E1B1B63-798C-42B7-AFA1-1EC3BC96CB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50371CE-1E74-46B7-821B-825EEC8348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775D1A4-7F40-4056-9EE5-ACD685B8AA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0A87294-69E4-4A42-9448-A2DBF3EA76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8DBF02E-6028-45BF-9117-C943DBAEF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416F444-B08B-441F-8DA7-A397D1A271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89568DD-2062-425C-9DA4-D5268BD4E7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1371600" y="1143000"/>
            <a:ext cx="4114800" cy="30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4DAD5F7-8BAE-4BD7-9002-3DCB529073ED}" type="slidenum">
              <a:rPr b="0" lang="en-GB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E752A6F-71CE-4BFF-96E9-E2FF7A6ECB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F898664-8B4F-4DF3-977C-860BED96FD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EE532BD-226E-4D0E-9D3A-2067CEA50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A60-5FFE-4AA7-870D-FDF33F95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0CA-EAC5-40D1-B0EF-69DF061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8EA-66E4-4CC8-B634-B7C7B3EF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CC4-AF3C-4B75-B5E8-84E7F349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6DD-24DD-408D-8A40-AE7FB903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623-AA50-45C2-9964-EAD85088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725-1936-466E-9223-A690E6C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638-05D1-4B94-8ED0-61DB2E76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A35-6076-4F4A-9B57-7AD9A9F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9FD-7650-42B5-8033-8721EC3D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795-90F3-4262-B944-14C7E56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80A-2E9C-4065-BD8C-CC26516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834B-885C-4DFC-87A6-B131DC21B16F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45720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Verdana"/>
                <a:ea typeface="Arial"/>
              </a:rPr>
              <a:t>КОМСОМОЛЬСКОЕ ГОРОДСКОЕ ПОСЕЛЕНИЕ ЧАМЗИНСКОГО МУНИЦИПАЛЬНОГО РАЙОНА</a:t>
            </a:r>
            <a:br>
              <a:rPr sz="2400"/>
            </a:br>
            <a:r>
              <a:rPr b="1" lang="en-GB" sz="2400" spc="-1" strike="noStrike">
                <a:solidFill>
                  <a:srgbClr val="0000cc"/>
                </a:solidFill>
                <a:latin typeface="Verdana"/>
                <a:ea typeface="Arial"/>
              </a:rPr>
              <a:t>РЕСПУБЛИКИ МОРДОВИЯ</a:t>
            </a:r>
            <a:br>
              <a:rPr sz="2400"/>
            </a:br>
            <a:br>
              <a:rPr sz="2400"/>
            </a:br>
            <a:r>
              <a:rPr b="0" lang="en-GB" sz="4400" spc="-1" strike="noStrike">
                <a:solidFill>
                  <a:srgbClr val="0000cc"/>
                </a:solidFill>
                <a:latin typeface="Tahoma"/>
                <a:ea typeface="Arial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352680"/>
            <a:ext cx="739152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66cc"/>
                </a:solidFill>
                <a:latin typeface="Times New Roman"/>
                <a:ea typeface="Arial"/>
              </a:rPr>
              <a:t>к проекту решения Совета депутатов Комсмольского городского поселения Чамзинского муниципального района «Об утверждении отчета об исполнении бюджета Комсомольского городского поселения Чамзинского муниципального района Республики Мордовия за 202</a:t>
            </a:r>
            <a:r>
              <a:rPr b="1" i="1" lang="ru-RU" sz="2800" spc="-1" strike="noStrike">
                <a:solidFill>
                  <a:srgbClr val="3366cc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66cc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3366cc"/>
                </a:solidFill>
                <a:latin typeface="Times New Roman"/>
                <a:ea typeface="Arial"/>
              </a:rPr>
              <a:t>год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Расходы бюджета Комсомольского городского поселения Чамзинского муниципального района </a:t>
            </a:r>
            <a:br>
              <a:rPr sz="2400"/>
            </a:br>
            <a:r>
              <a:rPr b="1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(на душу населения)</a:t>
            </a:r>
            <a:r>
              <a:rPr b="1" lang="ar-SA" sz="2400" spc="-1" strike="noStrike">
                <a:solidFill>
                  <a:srgbClr val="800000"/>
                </a:solidFill>
                <a:latin typeface="Tahom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2"/>
          <p:cNvGrpSpPr/>
          <p:nvPr/>
        </p:nvGrpSpPr>
        <p:grpSpPr>
          <a:xfrm>
            <a:off x="1677960" y="1989000"/>
            <a:ext cx="6206760" cy="3349440"/>
            <a:chOff x="1677960" y="1989000"/>
            <a:chExt cx="6206760" cy="3349440"/>
          </a:xfrm>
        </p:grpSpPr>
        <p:sp>
          <p:nvSpPr>
            <p:cNvPr id="357" name="Rectangle 3"/>
            <p:cNvSpPr/>
            <p:nvPr/>
          </p:nvSpPr>
          <p:spPr>
            <a:xfrm>
              <a:off x="1677960" y="1989000"/>
              <a:ext cx="356652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Расходы поселения,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рублей/чел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>
              <a:off x="5247720" y="1989000"/>
              <a:ext cx="9694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01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9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6220800" y="1989000"/>
              <a:ext cx="88524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3300"/>
                  </a:solidFill>
                  <a:latin typeface="Times New Roman"/>
                  <a:ea typeface="Arial"/>
                </a:rPr>
                <a:t>2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0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0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7112880" y="1989000"/>
              <a:ext cx="76860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02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1677960" y="2657160"/>
              <a:ext cx="3566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Всего, в том числе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247720" y="2657160"/>
              <a:ext cx="969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503,9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6220800" y="2657160"/>
              <a:ext cx="885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263,2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7112880" y="2657160"/>
              <a:ext cx="76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4169,5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1677960" y="2972160"/>
              <a:ext cx="35665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щегосударственные вопрос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5247720" y="2972160"/>
              <a:ext cx="96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460,1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6220800" y="2972160"/>
              <a:ext cx="8852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701,3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14"/>
            <p:cNvSpPr/>
            <p:nvPr/>
          </p:nvSpPr>
          <p:spPr>
            <a:xfrm>
              <a:off x="7112880" y="2972160"/>
              <a:ext cx="7686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707,4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15"/>
            <p:cNvSpPr/>
            <p:nvPr/>
          </p:nvSpPr>
          <p:spPr>
            <a:xfrm>
              <a:off x="1677960" y="3287160"/>
              <a:ext cx="35665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циональная</a:t>
              </a:r>
              <a:r>
                <a:rPr b="1" lang="en-GB" sz="1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орон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16"/>
            <p:cNvSpPr/>
            <p:nvPr/>
          </p:nvSpPr>
          <p:spPr>
            <a:xfrm>
              <a:off x="5247720" y="3287160"/>
              <a:ext cx="9694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0,6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17"/>
            <p:cNvSpPr/>
            <p:nvPr/>
          </p:nvSpPr>
          <p:spPr>
            <a:xfrm>
              <a:off x="6220800" y="3287160"/>
              <a:ext cx="8852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4,7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7112880" y="3287160"/>
              <a:ext cx="7686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8,8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1677960" y="3600720"/>
              <a:ext cx="3566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циональная безопасность и правоохранительн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20"/>
            <p:cNvSpPr/>
            <p:nvPr/>
          </p:nvSpPr>
          <p:spPr>
            <a:xfrm>
              <a:off x="5247720" y="3600720"/>
              <a:ext cx="9694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7,2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6220800" y="3600720"/>
              <a:ext cx="8852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,8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22"/>
            <p:cNvSpPr/>
            <p:nvPr/>
          </p:nvSpPr>
          <p:spPr>
            <a:xfrm>
              <a:off x="7112880" y="3600720"/>
              <a:ext cx="76860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,3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1677960" y="4078440"/>
              <a:ext cx="35665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циональная экономик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5247720" y="4078440"/>
              <a:ext cx="9694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558,8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25"/>
            <p:cNvSpPr/>
            <p:nvPr/>
          </p:nvSpPr>
          <p:spPr>
            <a:xfrm>
              <a:off x="6220800" y="4078440"/>
              <a:ext cx="8852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238,5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26"/>
            <p:cNvSpPr/>
            <p:nvPr/>
          </p:nvSpPr>
          <p:spPr>
            <a:xfrm>
              <a:off x="7112880" y="4078440"/>
              <a:ext cx="7686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680,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1677960" y="4393440"/>
              <a:ext cx="3566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лищно-коммунальное хозяйство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5247720" y="4393440"/>
              <a:ext cx="969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404,6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29"/>
            <p:cNvSpPr/>
            <p:nvPr/>
          </p:nvSpPr>
          <p:spPr>
            <a:xfrm>
              <a:off x="6220800" y="4393440"/>
              <a:ext cx="885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109,5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7112880" y="4393440"/>
              <a:ext cx="76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2570,8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1677960" y="4710240"/>
              <a:ext cx="35665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Охрана окружающей сред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32"/>
            <p:cNvSpPr/>
            <p:nvPr/>
          </p:nvSpPr>
          <p:spPr>
            <a:xfrm>
              <a:off x="5247720" y="4710240"/>
              <a:ext cx="96948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6220800" y="4710240"/>
              <a:ext cx="8852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31,9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34"/>
            <p:cNvSpPr/>
            <p:nvPr/>
          </p:nvSpPr>
          <p:spPr>
            <a:xfrm>
              <a:off x="7112880" y="4710240"/>
              <a:ext cx="7686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21,6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35"/>
            <p:cNvSpPr/>
            <p:nvPr/>
          </p:nvSpPr>
          <p:spPr>
            <a:xfrm>
              <a:off x="1677960" y="5023440"/>
              <a:ext cx="35665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Социальная  политик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36"/>
            <p:cNvSpPr/>
            <p:nvPr/>
          </p:nvSpPr>
          <p:spPr>
            <a:xfrm>
              <a:off x="5247720" y="5023440"/>
              <a:ext cx="9694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1,8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37"/>
            <p:cNvSpPr/>
            <p:nvPr/>
          </p:nvSpPr>
          <p:spPr>
            <a:xfrm>
              <a:off x="6220800" y="5023440"/>
              <a:ext cx="8852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5,2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38"/>
            <p:cNvSpPr/>
            <p:nvPr/>
          </p:nvSpPr>
          <p:spPr>
            <a:xfrm>
              <a:off x="7112880" y="5023440"/>
              <a:ext cx="7686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28,4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39"/>
            <p:cNvSpPr/>
            <p:nvPr/>
          </p:nvSpPr>
          <p:spPr>
            <a:xfrm>
              <a:off x="5247720" y="1989000"/>
              <a:ext cx="0" cy="334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Line 40"/>
            <p:cNvSpPr/>
            <p:nvPr/>
          </p:nvSpPr>
          <p:spPr>
            <a:xfrm>
              <a:off x="6220800" y="1989000"/>
              <a:ext cx="0" cy="334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7112880" y="1989000"/>
              <a:ext cx="0" cy="334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>
              <a:off x="1677960" y="265716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Line 43"/>
            <p:cNvSpPr/>
            <p:nvPr/>
          </p:nvSpPr>
          <p:spPr>
            <a:xfrm>
              <a:off x="1677960" y="297216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Line 44"/>
            <p:cNvSpPr/>
            <p:nvPr/>
          </p:nvSpPr>
          <p:spPr>
            <a:xfrm>
              <a:off x="1677960" y="328716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>
              <a:off x="1677960" y="360072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46"/>
            <p:cNvSpPr/>
            <p:nvPr/>
          </p:nvSpPr>
          <p:spPr>
            <a:xfrm>
              <a:off x="1677960" y="407844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1677960" y="439344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48"/>
            <p:cNvSpPr/>
            <p:nvPr/>
          </p:nvSpPr>
          <p:spPr>
            <a:xfrm>
              <a:off x="1677960" y="471024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>
              <a:off x="1677960" y="502344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>
              <a:off x="1677960" y="1989000"/>
              <a:ext cx="0" cy="334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>
              <a:off x="7884720" y="1989000"/>
              <a:ext cx="0" cy="334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>
              <a:off x="1677960" y="1989000"/>
              <a:ext cx="620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1677960" y="5338440"/>
              <a:ext cx="620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890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Муниципальные программы, принятые к финансированию из бюджета Комсомольского городского поселения Чамзинского муниципального района Республики Мордовия, в 201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9</a:t>
            </a:r>
            <a:r>
              <a:rPr b="1" i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-202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1</a:t>
            </a:r>
            <a:r>
              <a:rPr b="1" i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 годах (тыс. рублей)</a:t>
            </a:r>
            <a:r>
              <a:rPr b="1" i="1" lang="ar-SA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380880" y="1981080"/>
            <a:ext cx="8304480" cy="3148200"/>
            <a:chOff x="380880" y="1981080"/>
            <a:chExt cx="8304480" cy="3148200"/>
          </a:xfrm>
        </p:grpSpPr>
        <p:sp>
          <p:nvSpPr>
            <p:cNvPr id="410" name="Rectangle 3"/>
            <p:cNvSpPr/>
            <p:nvPr/>
          </p:nvSpPr>
          <p:spPr>
            <a:xfrm>
              <a:off x="380880" y="1981080"/>
              <a:ext cx="21297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2513880" y="1981080"/>
              <a:ext cx="2053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201</a:t>
              </a:r>
              <a:r>
                <a:rPr b="1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9</a:t>
              </a: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 го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4570920" y="1981080"/>
              <a:ext cx="2053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20</a:t>
              </a:r>
              <a:r>
                <a:rPr b="1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20</a:t>
              </a: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 го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6627960" y="1981080"/>
              <a:ext cx="2053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202</a:t>
              </a:r>
              <a:r>
                <a:rPr b="1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1</a:t>
              </a:r>
              <a:r>
                <a:rPr b="1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 го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0880" y="2352240"/>
              <a:ext cx="212976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Расходы бюджета Комсомольского городского поселения, тыс.руб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2513880" y="235224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31141,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4570920" y="235224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64737,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6627960" y="235224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171876,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11"/>
            <p:cNvSpPr/>
            <p:nvPr/>
          </p:nvSpPr>
          <p:spPr>
            <a:xfrm>
              <a:off x="380880" y="3296520"/>
              <a:ext cx="2129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12"/>
            <p:cNvSpPr/>
            <p:nvPr/>
          </p:nvSpPr>
          <p:spPr>
            <a:xfrm>
              <a:off x="2513880" y="3296520"/>
              <a:ext cx="205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4570920" y="3296520"/>
              <a:ext cx="205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14"/>
            <p:cNvSpPr/>
            <p:nvPr/>
          </p:nvSpPr>
          <p:spPr>
            <a:xfrm>
              <a:off x="6627960" y="3296520"/>
              <a:ext cx="205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15"/>
            <p:cNvSpPr/>
            <p:nvPr/>
          </p:nvSpPr>
          <p:spPr>
            <a:xfrm>
              <a:off x="380880" y="3665880"/>
              <a:ext cx="21297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в рамках муниципальных программ, тыс.рубле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2513880" y="3665880"/>
              <a:ext cx="20538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30116,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4570920" y="3665880"/>
              <a:ext cx="20538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63405,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6627960" y="3665880"/>
              <a:ext cx="20538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169047,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19"/>
            <p:cNvSpPr/>
            <p:nvPr/>
          </p:nvSpPr>
          <p:spPr>
            <a:xfrm>
              <a:off x="380880" y="4185000"/>
              <a:ext cx="212976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Доля муниципальных программ в общих расходах, 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20"/>
            <p:cNvSpPr/>
            <p:nvPr/>
          </p:nvSpPr>
          <p:spPr>
            <a:xfrm>
              <a:off x="2513880" y="418500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96,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4570920" y="418500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97,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22"/>
            <p:cNvSpPr/>
            <p:nvPr/>
          </p:nvSpPr>
          <p:spPr>
            <a:xfrm>
              <a:off x="6627960" y="4185000"/>
              <a:ext cx="2053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e5ffff"/>
                  </a:solidFill>
                  <a:latin typeface="Times New Roman"/>
                  <a:ea typeface="Times New Roman"/>
                </a:rPr>
                <a:t>98,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513880" y="1981080"/>
              <a:ext cx="0" cy="314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4570920" y="1981080"/>
              <a:ext cx="0" cy="314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6627960" y="1981080"/>
              <a:ext cx="0" cy="314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80880" y="2352240"/>
              <a:ext cx="830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380880" y="3296520"/>
              <a:ext cx="830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380880" y="3665880"/>
              <a:ext cx="830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380880" y="4185000"/>
              <a:ext cx="830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380880" y="1981080"/>
              <a:ext cx="0" cy="314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8685360" y="1981080"/>
              <a:ext cx="0" cy="314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380880" y="1981080"/>
              <a:ext cx="830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380880" y="5129280"/>
              <a:ext cx="830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34"/>
          <p:cNvSpPr/>
          <p:nvPr/>
        </p:nvSpPr>
        <p:spPr>
          <a:xfrm>
            <a:off x="423720" y="5029200"/>
            <a:ext cx="8305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Государственная (муниципальная) программа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– документ, определяющий цель, задачи, результаты, основные направления и инструменты государственной политики, направленные на достижение целей и реализацию государственных приорит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66"/>
                </a:solidFill>
                <a:latin typeface="Times New Roman"/>
                <a:ea typeface="Arial"/>
              </a:rPr>
              <a:t>Финансирование муниципальных программ за 202</a:t>
            </a:r>
            <a:r>
              <a:rPr b="1" lang="ru-RU" sz="3000" spc="-1" strike="noStrike">
                <a:solidFill>
                  <a:srgbClr val="ff0066"/>
                </a:solidFill>
                <a:latin typeface="Times New Roman"/>
                <a:ea typeface="Arial"/>
              </a:rPr>
              <a:t>1</a:t>
            </a:r>
            <a:r>
              <a:rPr b="1" lang="en-GB" sz="3000" spc="-1" strike="noStrike">
                <a:solidFill>
                  <a:srgbClr val="ff0066"/>
                </a:solidFill>
                <a:latin typeface="Times New Roman"/>
                <a:ea typeface="Arial"/>
              </a:rPr>
              <a:t> год (тыс. рублей)</a:t>
            </a:r>
            <a:r>
              <a:rPr b="1" lang="ar-SA" sz="3000" spc="-1" strike="noStrike">
                <a:solidFill>
                  <a:srgbClr val="ff0066"/>
                </a:solidFill>
                <a:latin typeface="Times New Roman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250920" y="1981080"/>
            <a:ext cx="8726040" cy="3461040"/>
            <a:chOff x="250920" y="1981080"/>
            <a:chExt cx="8726040" cy="3461040"/>
          </a:xfrm>
        </p:grpSpPr>
        <p:sp>
          <p:nvSpPr>
            <p:cNvPr id="444" name="Rectangle 3"/>
            <p:cNvSpPr/>
            <p:nvPr/>
          </p:nvSpPr>
          <p:spPr>
            <a:xfrm>
              <a:off x="254160" y="1981080"/>
              <a:ext cx="4806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№ </a:t>
              </a:r>
              <a:r>
                <a:rPr b="1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/п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Rectangle 4"/>
            <p:cNvSpPr/>
            <p:nvPr/>
          </p:nvSpPr>
          <p:spPr>
            <a:xfrm>
              <a:off x="738360" y="1981080"/>
              <a:ext cx="299952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именование программы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3741480" y="1981080"/>
              <a:ext cx="17380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едусмотрено на 202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год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5483160" y="1981080"/>
              <a:ext cx="1739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сполнено за 202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год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7226640" y="1981080"/>
              <a:ext cx="1743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оцент исполнения, %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>
              <a:off x="254160" y="2369160"/>
              <a:ext cx="4806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9"/>
            <p:cNvSpPr/>
            <p:nvPr/>
          </p:nvSpPr>
          <p:spPr>
            <a:xfrm>
              <a:off x="738360" y="2369160"/>
              <a:ext cx="29995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ая программа "Развитие муниципальной службы в Комсомольском городском поселении Чамзинского муниципального района Республики Мордовия (2015-2024 годы)"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Rectangle 10"/>
            <p:cNvSpPr/>
            <p:nvPr/>
          </p:nvSpPr>
          <p:spPr>
            <a:xfrm>
              <a:off x="3741480" y="2369160"/>
              <a:ext cx="17380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282,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Rectangle 11"/>
            <p:cNvSpPr/>
            <p:nvPr/>
          </p:nvSpPr>
          <p:spPr>
            <a:xfrm>
              <a:off x="5483160" y="2369160"/>
              <a:ext cx="1739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976,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Rectangle 12"/>
            <p:cNvSpPr/>
            <p:nvPr/>
          </p:nvSpPr>
          <p:spPr>
            <a:xfrm>
              <a:off x="7226640" y="2369160"/>
              <a:ext cx="1739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6,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Rectangle 13"/>
            <p:cNvSpPr/>
            <p:nvPr/>
          </p:nvSpPr>
          <p:spPr>
            <a:xfrm>
              <a:off x="254160" y="2950200"/>
              <a:ext cx="480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14"/>
            <p:cNvSpPr/>
            <p:nvPr/>
          </p:nvSpPr>
          <p:spPr>
            <a:xfrm>
              <a:off x="738360" y="2950200"/>
              <a:ext cx="299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ая программа «Развитие автомобильных дорог в Комсомольском городском поселении Чамзинского муниципального района Республики Мордовия на 2017-2024гг.»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Rectangle 15"/>
            <p:cNvSpPr/>
            <p:nvPr/>
          </p:nvSpPr>
          <p:spPr>
            <a:xfrm>
              <a:off x="3741480" y="2950200"/>
              <a:ext cx="1738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766,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16"/>
            <p:cNvSpPr/>
            <p:nvPr/>
          </p:nvSpPr>
          <p:spPr>
            <a:xfrm>
              <a:off x="5483160" y="2950200"/>
              <a:ext cx="1739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249,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7226640" y="2950200"/>
              <a:ext cx="1739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4,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Rectangle 18"/>
            <p:cNvSpPr/>
            <p:nvPr/>
          </p:nvSpPr>
          <p:spPr>
            <a:xfrm>
              <a:off x="254160" y="3503880"/>
              <a:ext cx="480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19"/>
            <p:cNvSpPr/>
            <p:nvPr/>
          </p:nvSpPr>
          <p:spPr>
            <a:xfrm>
              <a:off x="738360" y="3503880"/>
              <a:ext cx="29995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Целевая программа муниципального образования  "Охрана окружающей среды и повышение экологической безопасности на 2016 - 2022 годы"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0"/>
            <p:cNvSpPr/>
            <p:nvPr/>
          </p:nvSpPr>
          <p:spPr>
            <a:xfrm>
              <a:off x="3741480" y="3503880"/>
              <a:ext cx="17380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121,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21"/>
            <p:cNvSpPr/>
            <p:nvPr/>
          </p:nvSpPr>
          <p:spPr>
            <a:xfrm>
              <a:off x="5483160" y="3503880"/>
              <a:ext cx="17384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579,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Rectangle 22"/>
            <p:cNvSpPr/>
            <p:nvPr/>
          </p:nvSpPr>
          <p:spPr>
            <a:xfrm>
              <a:off x="7226640" y="3503880"/>
              <a:ext cx="17366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9,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23"/>
            <p:cNvSpPr/>
            <p:nvPr/>
          </p:nvSpPr>
          <p:spPr>
            <a:xfrm>
              <a:off x="254160" y="4135320"/>
              <a:ext cx="48060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24"/>
            <p:cNvSpPr/>
            <p:nvPr/>
          </p:nvSpPr>
          <p:spPr>
            <a:xfrm>
              <a:off x="738360" y="4135320"/>
              <a:ext cx="299952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ая программа "Формирование современной городской среды на территории  Комсомольского городского поселения на 2018-2024 годы"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25"/>
            <p:cNvSpPr/>
            <p:nvPr/>
          </p:nvSpPr>
          <p:spPr>
            <a:xfrm>
              <a:off x="3741480" y="4135320"/>
              <a:ext cx="17380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705,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26"/>
            <p:cNvSpPr/>
            <p:nvPr/>
          </p:nvSpPr>
          <p:spPr>
            <a:xfrm>
              <a:off x="5483160" y="4135320"/>
              <a:ext cx="17398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704,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27"/>
            <p:cNvSpPr/>
            <p:nvPr/>
          </p:nvSpPr>
          <p:spPr>
            <a:xfrm>
              <a:off x="7226640" y="4135320"/>
              <a:ext cx="17398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,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28"/>
            <p:cNvSpPr/>
            <p:nvPr/>
          </p:nvSpPr>
          <p:spPr>
            <a:xfrm>
              <a:off x="254160" y="4890960"/>
              <a:ext cx="48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3366"/>
                  </a:solidFill>
                  <a:latin typeface="Tahoma"/>
                  <a:ea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29"/>
            <p:cNvSpPr/>
            <p:nvPr/>
          </p:nvSpPr>
          <p:spPr>
            <a:xfrm>
              <a:off x="738360" y="4890960"/>
              <a:ext cx="299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ая программа «Профилактика правонарушений на территории Комсомольского городского поселения на 2017–2024 годы»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Rectangle 30"/>
            <p:cNvSpPr/>
            <p:nvPr/>
          </p:nvSpPr>
          <p:spPr>
            <a:xfrm>
              <a:off x="3741480" y="4890960"/>
              <a:ext cx="17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,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ectangle 31"/>
            <p:cNvSpPr/>
            <p:nvPr/>
          </p:nvSpPr>
          <p:spPr>
            <a:xfrm>
              <a:off x="5483160" y="4890960"/>
              <a:ext cx="173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,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32"/>
            <p:cNvSpPr/>
            <p:nvPr/>
          </p:nvSpPr>
          <p:spPr>
            <a:xfrm>
              <a:off x="7226640" y="4890960"/>
              <a:ext cx="173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Line 33"/>
            <p:cNvSpPr/>
            <p:nvPr/>
          </p:nvSpPr>
          <p:spPr>
            <a:xfrm>
              <a:off x="73836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34"/>
            <p:cNvSpPr/>
            <p:nvPr/>
          </p:nvSpPr>
          <p:spPr>
            <a:xfrm>
              <a:off x="374148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Line 35"/>
            <p:cNvSpPr/>
            <p:nvPr/>
          </p:nvSpPr>
          <p:spPr>
            <a:xfrm>
              <a:off x="548316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722664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Line 37"/>
            <p:cNvSpPr/>
            <p:nvPr/>
          </p:nvSpPr>
          <p:spPr>
            <a:xfrm>
              <a:off x="254160" y="2369160"/>
              <a:ext cx="871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Line 38"/>
            <p:cNvSpPr/>
            <p:nvPr/>
          </p:nvSpPr>
          <p:spPr>
            <a:xfrm>
              <a:off x="254160" y="2950200"/>
              <a:ext cx="871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Line 39"/>
            <p:cNvSpPr/>
            <p:nvPr/>
          </p:nvSpPr>
          <p:spPr>
            <a:xfrm>
              <a:off x="254160" y="3503880"/>
              <a:ext cx="871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Line 40"/>
            <p:cNvSpPr/>
            <p:nvPr/>
          </p:nvSpPr>
          <p:spPr>
            <a:xfrm flipV="1">
              <a:off x="250920" y="3871440"/>
              <a:ext cx="872604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Line 41"/>
            <p:cNvSpPr/>
            <p:nvPr/>
          </p:nvSpPr>
          <p:spPr>
            <a:xfrm>
              <a:off x="254160" y="4890960"/>
              <a:ext cx="871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Line 42"/>
            <p:cNvSpPr/>
            <p:nvPr/>
          </p:nvSpPr>
          <p:spPr>
            <a:xfrm>
              <a:off x="25416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Line 43"/>
            <p:cNvSpPr/>
            <p:nvPr/>
          </p:nvSpPr>
          <p:spPr>
            <a:xfrm>
              <a:off x="8970120" y="1981080"/>
              <a:ext cx="0" cy="346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Line 44"/>
            <p:cNvSpPr/>
            <p:nvPr/>
          </p:nvSpPr>
          <p:spPr>
            <a:xfrm>
              <a:off x="254160" y="1981080"/>
              <a:ext cx="871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Line 45"/>
            <p:cNvSpPr/>
            <p:nvPr/>
          </p:nvSpPr>
          <p:spPr>
            <a:xfrm>
              <a:off x="264240" y="5442120"/>
              <a:ext cx="87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f21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755640" y="1268280"/>
          <a:ext cx="7416720" cy="4367520"/>
        </p:xfrm>
        <a:graphic>
          <a:graphicData uri="http://schemas.openxmlformats.org/drawingml/2006/table">
            <a:tbl>
              <a:tblPr/>
              <a:tblGrid>
                <a:gridCol w="504720"/>
                <a:gridCol w="3816360"/>
                <a:gridCol w="1224000"/>
                <a:gridCol w="935280"/>
                <a:gridCol w="936360"/>
              </a:tblGrid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усмотрено на 2021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нено за 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Модернизация и реформирование жилищно-коммунальног хозяйства Комсомольского городского поселения на 2016-2024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4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0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Оформление права собственности на муниципальные и бесхозяйные объекты недвижимого имущества, расположенные на территории Комсомольского городского поселения на 2015-2023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 Переселение граждан из аварийного жилищного фонда на территории Комсомольского городского поселения на 2019-2025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0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77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0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ая программа «Повышение эффективности управления муниципальными финансами в Администрации Комсомольского городского поселения Чамзинского муниципального района Республики Мордовия на 2016-2023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457200" y="3808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ff"/>
                </a:solidFill>
                <a:latin typeface="Tahoma"/>
                <a:ea typeface="Arial"/>
              </a:rPr>
              <a:t>Бюджет для граждан подготовлен Администрацией Комсомольского городского поселения Чамзинского муниципального района Республики Мордов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228600" y="1676520"/>
            <a:ext cx="8458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33ccff"/>
                </a:solidFill>
                <a:latin typeface="Tahoma"/>
                <a:ea typeface="Arial"/>
              </a:rPr>
              <a:t>Адрес: Республика Мордовия, Чамзинский район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33ccff"/>
                </a:solidFill>
                <a:latin typeface="Tahoma"/>
                <a:ea typeface="Arial"/>
              </a:rPr>
              <a:t>п. Комсомольский, ул. Коммунистическая, д.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33ccff"/>
                </a:solidFill>
                <a:latin typeface="Tahoma"/>
                <a:ea typeface="Arial"/>
              </a:rPr>
              <a:t>Телефон: 8-8(3437)-33-6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адрес электронной почты </a:t>
            </a:r>
            <a:r>
              <a:rPr b="0" lang="en-GB" sz="1400" spc="-1" strike="noStrike">
                <a:solidFill>
                  <a:srgbClr val="29ffff"/>
                </a:solidFill>
                <a:latin typeface="Arial"/>
                <a:ea typeface="Arial"/>
              </a:rPr>
              <a:t>koms_admin@rambler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График работы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с понедельника по пятницу - с 8-30 до 17-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суббота, воскресенье - выходные д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Обеденный перерыв - с 13-00 до 14-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Проект Решения «Об утверждении отчета об исполнении бюджета Сабур-Мачкасского сельского поселения  Чамзинского муниципального района Республики Мордовия за 2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 год» размещен на официальном сайте администрации Комсомольского городского поселения Чамзинского муниципального района Республики Морд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Место и время рассмотрения проекта Решения на публичных слушаниях будет дополнительно опубликовано в _____________________________________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80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Основные показатели социально-экономического развития Комсомольского городского поселения Чамзинского муниципального района за 201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9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-202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1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457200" y="1752480"/>
            <a:ext cx="8380440" cy="4813560"/>
            <a:chOff x="457200" y="1752480"/>
            <a:chExt cx="8380440" cy="4813560"/>
          </a:xfrm>
        </p:grpSpPr>
        <p:sp>
          <p:nvSpPr>
            <p:cNvPr id="55" name="Rectangle 3"/>
            <p:cNvSpPr/>
            <p:nvPr/>
          </p:nvSpPr>
          <p:spPr>
            <a:xfrm>
              <a:off x="457200" y="1752480"/>
              <a:ext cx="3688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именование показател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4149000" y="1752480"/>
              <a:ext cx="1393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1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5545800" y="1752480"/>
              <a:ext cx="1691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7240680" y="1752480"/>
              <a:ext cx="15937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2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д (факт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457200" y="2303280"/>
              <a:ext cx="3688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исленность населения, чел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4149000" y="2303280"/>
              <a:ext cx="1393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9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5545800" y="2303280"/>
              <a:ext cx="16916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7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7240680" y="2303280"/>
              <a:ext cx="15937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5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457200" y="2577600"/>
              <a:ext cx="3688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мп роста к уровню прошлого года, 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149000" y="2577600"/>
              <a:ext cx="1393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7,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5545800" y="2577600"/>
              <a:ext cx="16916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6,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7240680" y="2577600"/>
              <a:ext cx="15937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5,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457200" y="2852280"/>
              <a:ext cx="3688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немесячная заработная плата, руб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4149000" y="2852280"/>
              <a:ext cx="13935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5075,1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45800" y="2852280"/>
              <a:ext cx="16916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894,7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7240680" y="2852280"/>
              <a:ext cx="15937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1441,9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57200" y="3126600"/>
              <a:ext cx="36885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мп роста к уровню прошлого года, 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149000" y="3126600"/>
              <a:ext cx="13935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5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5545800" y="3126600"/>
              <a:ext cx="16916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5,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7240680" y="3126600"/>
              <a:ext cx="1593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0,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57200" y="3399840"/>
              <a:ext cx="36885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ъем оборота розничной торговли во всех каналах реализации, тыс.руб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24"/>
            <p:cNvSpPr/>
            <p:nvPr/>
          </p:nvSpPr>
          <p:spPr>
            <a:xfrm>
              <a:off x="4149000" y="3399840"/>
              <a:ext cx="13935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715,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25"/>
            <p:cNvSpPr/>
            <p:nvPr/>
          </p:nvSpPr>
          <p:spPr>
            <a:xfrm>
              <a:off x="5545800" y="3399840"/>
              <a:ext cx="16916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194,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7240680" y="3399840"/>
              <a:ext cx="15937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462,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27"/>
            <p:cNvSpPr/>
            <p:nvPr/>
          </p:nvSpPr>
          <p:spPr>
            <a:xfrm>
              <a:off x="457200" y="3950640"/>
              <a:ext cx="36885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мп роста к уровню прошлого года, 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4149000" y="3950640"/>
              <a:ext cx="13935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4,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5545800" y="3950640"/>
              <a:ext cx="16916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3,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7240680" y="3950640"/>
              <a:ext cx="1593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2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57200" y="4281840"/>
              <a:ext cx="3688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ъем реализации водки и ликероводочных изделий производства Республики Мордовия, декалитр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149000" y="4281840"/>
              <a:ext cx="1393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6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5545800" y="4281840"/>
              <a:ext cx="1691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4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34"/>
            <p:cNvSpPr/>
            <p:nvPr/>
          </p:nvSpPr>
          <p:spPr>
            <a:xfrm>
              <a:off x="7240680" y="4281840"/>
              <a:ext cx="1593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43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35"/>
            <p:cNvSpPr/>
            <p:nvPr/>
          </p:nvSpPr>
          <p:spPr>
            <a:xfrm>
              <a:off x="457200" y="4739040"/>
              <a:ext cx="3688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GB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мп роста к уровню прошлого года, 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36"/>
            <p:cNvSpPr/>
            <p:nvPr/>
          </p:nvSpPr>
          <p:spPr>
            <a:xfrm>
              <a:off x="4149000" y="4739040"/>
              <a:ext cx="1393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4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37"/>
            <p:cNvSpPr/>
            <p:nvPr/>
          </p:nvSpPr>
          <p:spPr>
            <a:xfrm>
              <a:off x="5545800" y="4739040"/>
              <a:ext cx="1691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8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8"/>
            <p:cNvSpPr/>
            <p:nvPr/>
          </p:nvSpPr>
          <p:spPr>
            <a:xfrm>
              <a:off x="7240680" y="4739040"/>
              <a:ext cx="1593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2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9"/>
            <p:cNvSpPr/>
            <p:nvPr/>
          </p:nvSpPr>
          <p:spPr>
            <a:xfrm>
              <a:off x="457200" y="5043960"/>
              <a:ext cx="368856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щая площадь введенного в эксплуатацию жилья с учетом индивидуального жилищного строительства, (кв.м.)</a:t>
              </a: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40"/>
            <p:cNvSpPr/>
            <p:nvPr/>
          </p:nvSpPr>
          <p:spPr>
            <a:xfrm>
              <a:off x="4149000" y="5043960"/>
              <a:ext cx="139356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22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41"/>
            <p:cNvSpPr/>
            <p:nvPr/>
          </p:nvSpPr>
          <p:spPr>
            <a:xfrm>
              <a:off x="5545800" y="5043960"/>
              <a:ext cx="16916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0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42"/>
            <p:cNvSpPr/>
            <p:nvPr/>
          </p:nvSpPr>
          <p:spPr>
            <a:xfrm>
              <a:off x="7240680" y="5043960"/>
              <a:ext cx="15937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4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43"/>
            <p:cNvSpPr/>
            <p:nvPr/>
          </p:nvSpPr>
          <p:spPr>
            <a:xfrm>
              <a:off x="457200" y="6034320"/>
              <a:ext cx="36885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мп роста к уровню прошлого года, 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44"/>
            <p:cNvSpPr/>
            <p:nvPr/>
          </p:nvSpPr>
          <p:spPr>
            <a:xfrm>
              <a:off x="4149000" y="6034320"/>
              <a:ext cx="13935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81,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5545800" y="6034320"/>
              <a:ext cx="169164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6,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7240680" y="6034320"/>
              <a:ext cx="159372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4,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47"/>
            <p:cNvSpPr/>
            <p:nvPr/>
          </p:nvSpPr>
          <p:spPr>
            <a:xfrm>
              <a:off x="4149000" y="1752480"/>
              <a:ext cx="0" cy="481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48"/>
            <p:cNvSpPr/>
            <p:nvPr/>
          </p:nvSpPr>
          <p:spPr>
            <a:xfrm>
              <a:off x="5545800" y="1752480"/>
              <a:ext cx="0" cy="481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49"/>
            <p:cNvSpPr/>
            <p:nvPr/>
          </p:nvSpPr>
          <p:spPr>
            <a:xfrm>
              <a:off x="7240680" y="1752480"/>
              <a:ext cx="0" cy="481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50"/>
            <p:cNvSpPr/>
            <p:nvPr/>
          </p:nvSpPr>
          <p:spPr>
            <a:xfrm>
              <a:off x="457200" y="230328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51"/>
            <p:cNvSpPr/>
            <p:nvPr/>
          </p:nvSpPr>
          <p:spPr>
            <a:xfrm>
              <a:off x="457200" y="257760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52"/>
            <p:cNvSpPr/>
            <p:nvPr/>
          </p:nvSpPr>
          <p:spPr>
            <a:xfrm>
              <a:off x="457200" y="285228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53"/>
            <p:cNvSpPr/>
            <p:nvPr/>
          </p:nvSpPr>
          <p:spPr>
            <a:xfrm>
              <a:off x="457200" y="312660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54"/>
            <p:cNvSpPr/>
            <p:nvPr/>
          </p:nvSpPr>
          <p:spPr>
            <a:xfrm>
              <a:off x="457200" y="339984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55"/>
            <p:cNvSpPr/>
            <p:nvPr/>
          </p:nvSpPr>
          <p:spPr>
            <a:xfrm>
              <a:off x="457200" y="395064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56"/>
            <p:cNvSpPr/>
            <p:nvPr/>
          </p:nvSpPr>
          <p:spPr>
            <a:xfrm>
              <a:off x="457200" y="428184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7"/>
            <p:cNvSpPr/>
            <p:nvPr/>
          </p:nvSpPr>
          <p:spPr>
            <a:xfrm>
              <a:off x="457200" y="473904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>
              <a:off x="457200" y="504396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9"/>
            <p:cNvSpPr/>
            <p:nvPr/>
          </p:nvSpPr>
          <p:spPr>
            <a:xfrm>
              <a:off x="457200" y="6034320"/>
              <a:ext cx="837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60"/>
            <p:cNvSpPr/>
            <p:nvPr/>
          </p:nvSpPr>
          <p:spPr>
            <a:xfrm>
              <a:off x="457200" y="1752480"/>
              <a:ext cx="0" cy="481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61"/>
            <p:cNvSpPr/>
            <p:nvPr/>
          </p:nvSpPr>
          <p:spPr>
            <a:xfrm>
              <a:off x="8837640" y="1752480"/>
              <a:ext cx="0" cy="481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62"/>
            <p:cNvSpPr/>
            <p:nvPr/>
          </p:nvSpPr>
          <p:spPr>
            <a:xfrm>
              <a:off x="457200" y="1752480"/>
              <a:ext cx="837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63"/>
            <p:cNvSpPr/>
            <p:nvPr/>
          </p:nvSpPr>
          <p:spPr>
            <a:xfrm>
              <a:off x="457200" y="6566040"/>
              <a:ext cx="837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320760"/>
            <a:ext cx="82296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Основные параметры исполнения бюджета Комсомольского городского поселения Чамзинского муниципального района</a:t>
            </a:r>
            <a:br>
              <a:rPr sz="32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(тыс.рублей)</a:t>
            </a:r>
            <a:r>
              <a:rPr b="0" lang="ar-SA" sz="2000" spc="-1" strike="noStrike">
                <a:solidFill>
                  <a:srgbClr val="800000"/>
                </a:solidFill>
                <a:latin typeface="Tahoma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457200" y="1981080"/>
            <a:ext cx="8228160" cy="3897360"/>
            <a:chOff x="457200" y="1981080"/>
            <a:chExt cx="8228160" cy="3897360"/>
          </a:xfrm>
        </p:grpSpPr>
        <p:sp>
          <p:nvSpPr>
            <p:cNvPr id="118" name="Rectangle 3"/>
            <p:cNvSpPr/>
            <p:nvPr/>
          </p:nvSpPr>
          <p:spPr>
            <a:xfrm>
              <a:off x="457200" y="1981080"/>
              <a:ext cx="205380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оказател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2514240" y="1981080"/>
              <a:ext cx="121572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Факт 20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0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3733200" y="1981080"/>
              <a:ext cx="106308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лан 202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4799520" y="1981080"/>
              <a:ext cx="136800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Исполнен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02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6171120" y="1981080"/>
              <a:ext cx="106344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% исполн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7237440" y="1981080"/>
              <a:ext cx="1444320" cy="86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ост(+)/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снижение(-) к 20</a:t>
              </a:r>
              <a:r>
                <a:rPr b="1" lang="ru-RU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0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г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457200" y="2851920"/>
              <a:ext cx="205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оходы, всег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2514240" y="2851920"/>
              <a:ext cx="1215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808,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3733200" y="2851920"/>
              <a:ext cx="10630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904,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4799520" y="2851920"/>
              <a:ext cx="1368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308,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6171120" y="2851920"/>
              <a:ext cx="1063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8,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14"/>
            <p:cNvSpPr/>
            <p:nvPr/>
          </p:nvSpPr>
          <p:spPr>
            <a:xfrm>
              <a:off x="7237440" y="2851920"/>
              <a:ext cx="1444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8500,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457200" y="3217320"/>
              <a:ext cx="205380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в том числ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16"/>
            <p:cNvSpPr/>
            <p:nvPr/>
          </p:nvSpPr>
          <p:spPr>
            <a:xfrm>
              <a:off x="2514240" y="3217320"/>
              <a:ext cx="12157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3733200" y="3217320"/>
              <a:ext cx="10630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18"/>
            <p:cNvSpPr/>
            <p:nvPr/>
          </p:nvSpPr>
          <p:spPr>
            <a:xfrm>
              <a:off x="4799520" y="3217320"/>
              <a:ext cx="136800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9"/>
            <p:cNvSpPr/>
            <p:nvPr/>
          </p:nvSpPr>
          <p:spPr>
            <a:xfrm>
              <a:off x="6171120" y="3217320"/>
              <a:ext cx="106344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7237440" y="3217320"/>
              <a:ext cx="14443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21"/>
            <p:cNvSpPr/>
            <p:nvPr/>
          </p:nvSpPr>
          <p:spPr>
            <a:xfrm>
              <a:off x="457200" y="3583440"/>
              <a:ext cx="2053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алоговые и неналоговы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2514240" y="3583440"/>
              <a:ext cx="12157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713,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23"/>
            <p:cNvSpPr/>
            <p:nvPr/>
          </p:nvSpPr>
          <p:spPr>
            <a:xfrm>
              <a:off x="3733200" y="3583440"/>
              <a:ext cx="106308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8177,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4799520" y="3583440"/>
              <a:ext cx="1368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805,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6171120" y="3583440"/>
              <a:ext cx="10634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26"/>
            <p:cNvSpPr/>
            <p:nvPr/>
          </p:nvSpPr>
          <p:spPr>
            <a:xfrm>
              <a:off x="7237440" y="3583440"/>
              <a:ext cx="14443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91,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27"/>
            <p:cNvSpPr/>
            <p:nvPr/>
          </p:nvSpPr>
          <p:spPr>
            <a:xfrm>
              <a:off x="457200" y="4223160"/>
              <a:ext cx="2053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безвозмездные поступл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28"/>
            <p:cNvSpPr/>
            <p:nvPr/>
          </p:nvSpPr>
          <p:spPr>
            <a:xfrm>
              <a:off x="2514240" y="4223160"/>
              <a:ext cx="12157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5,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29"/>
            <p:cNvSpPr/>
            <p:nvPr/>
          </p:nvSpPr>
          <p:spPr>
            <a:xfrm>
              <a:off x="3733200" y="4223160"/>
              <a:ext cx="10630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8981,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4799520" y="4223160"/>
              <a:ext cx="1368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6757,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6171120" y="4223160"/>
              <a:ext cx="106344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,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7237440" y="4223160"/>
              <a:ext cx="14443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6662,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457200" y="4862520"/>
              <a:ext cx="20538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асходы, всег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4"/>
            <p:cNvSpPr/>
            <p:nvPr/>
          </p:nvSpPr>
          <p:spPr>
            <a:xfrm>
              <a:off x="2514240" y="4862520"/>
              <a:ext cx="12157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737,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5"/>
            <p:cNvSpPr/>
            <p:nvPr/>
          </p:nvSpPr>
          <p:spPr>
            <a:xfrm>
              <a:off x="3733200" y="4862520"/>
              <a:ext cx="10630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904,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6"/>
            <p:cNvSpPr/>
            <p:nvPr/>
          </p:nvSpPr>
          <p:spPr>
            <a:xfrm>
              <a:off x="4799520" y="4862520"/>
              <a:ext cx="13680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1876,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7"/>
            <p:cNvSpPr/>
            <p:nvPr/>
          </p:nvSpPr>
          <p:spPr>
            <a:xfrm>
              <a:off x="6171120" y="4862520"/>
              <a:ext cx="106344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7237440" y="4862520"/>
              <a:ext cx="14443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7138,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39"/>
            <p:cNvSpPr/>
            <p:nvPr/>
          </p:nvSpPr>
          <p:spPr>
            <a:xfrm>
              <a:off x="457200" y="5394240"/>
              <a:ext cx="205380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40"/>
            <p:cNvSpPr/>
            <p:nvPr/>
          </p:nvSpPr>
          <p:spPr>
            <a:xfrm>
              <a:off x="2514240" y="5394240"/>
              <a:ext cx="1215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2071,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41"/>
            <p:cNvSpPr/>
            <p:nvPr/>
          </p:nvSpPr>
          <p:spPr>
            <a:xfrm>
              <a:off x="3733200" y="5394240"/>
              <a:ext cx="106308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42"/>
            <p:cNvSpPr/>
            <p:nvPr/>
          </p:nvSpPr>
          <p:spPr>
            <a:xfrm>
              <a:off x="4799520" y="5394240"/>
              <a:ext cx="136800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32,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43"/>
            <p:cNvSpPr/>
            <p:nvPr/>
          </p:nvSpPr>
          <p:spPr>
            <a:xfrm>
              <a:off x="6171120" y="5394240"/>
              <a:ext cx="106344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4"/>
            <p:cNvSpPr/>
            <p:nvPr/>
          </p:nvSpPr>
          <p:spPr>
            <a:xfrm>
              <a:off x="7237440" y="5394240"/>
              <a:ext cx="14443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2514240" y="1981080"/>
              <a:ext cx="0" cy="38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3733200" y="1981080"/>
              <a:ext cx="0" cy="38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4799520" y="1981080"/>
              <a:ext cx="0" cy="38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48"/>
            <p:cNvSpPr/>
            <p:nvPr/>
          </p:nvSpPr>
          <p:spPr>
            <a:xfrm>
              <a:off x="6171120" y="1981080"/>
              <a:ext cx="0" cy="38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49"/>
            <p:cNvSpPr/>
            <p:nvPr/>
          </p:nvSpPr>
          <p:spPr>
            <a:xfrm>
              <a:off x="7237440" y="1981080"/>
              <a:ext cx="0" cy="389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50"/>
            <p:cNvSpPr/>
            <p:nvPr/>
          </p:nvSpPr>
          <p:spPr>
            <a:xfrm>
              <a:off x="457200" y="285192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51"/>
            <p:cNvSpPr/>
            <p:nvPr/>
          </p:nvSpPr>
          <p:spPr>
            <a:xfrm>
              <a:off x="457200" y="321732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52"/>
            <p:cNvSpPr/>
            <p:nvPr/>
          </p:nvSpPr>
          <p:spPr>
            <a:xfrm>
              <a:off x="457200" y="358344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>
              <a:off x="457200" y="422316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>
              <a:off x="457200" y="486252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>
              <a:off x="457200" y="5394240"/>
              <a:ext cx="822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6"/>
            <p:cNvSpPr/>
            <p:nvPr/>
          </p:nvSpPr>
          <p:spPr>
            <a:xfrm>
              <a:off x="457200" y="1981080"/>
              <a:ext cx="0" cy="389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>
              <a:off x="8685360" y="1981080"/>
              <a:ext cx="0" cy="389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457200" y="1981080"/>
              <a:ext cx="822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59"/>
            <p:cNvSpPr/>
            <p:nvPr/>
          </p:nvSpPr>
          <p:spPr>
            <a:xfrm>
              <a:off x="457200" y="5878440"/>
              <a:ext cx="822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457200" y="2793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Динамика доходов бюджета Комсомольского городского поселения Чамзинского муниципального района Республики Мордовия за 2016-202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1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годы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Tahoma"/>
                <a:ea typeface="Arial"/>
              </a:rPr>
              <a:t>(тыс.рублей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2"/>
          <p:cNvGrpSpPr/>
          <p:nvPr/>
        </p:nvGrpSpPr>
        <p:grpSpPr>
          <a:xfrm>
            <a:off x="457200" y="1535040"/>
            <a:ext cx="8446680" cy="4654440"/>
            <a:chOff x="457200" y="1535040"/>
            <a:chExt cx="8446680" cy="4654440"/>
          </a:xfrm>
        </p:grpSpPr>
        <p:graphicFrame>
          <p:nvGraphicFramePr>
            <p:cNvPr id="177" name="Object 3"/>
            <p:cNvGraphicFramePr/>
            <p:nvPr/>
          </p:nvGraphicFramePr>
          <p:xfrm>
            <a:off x="457200" y="1555920"/>
            <a:ext cx="8446680" cy="4631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78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555920"/>
                      <a:ext cx="8446680" cy="46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4"/>
            <p:cNvSpPr/>
            <p:nvPr/>
          </p:nvSpPr>
          <p:spPr>
            <a:xfrm>
              <a:off x="457200" y="1535040"/>
              <a:ext cx="8446680" cy="46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336600"/>
            <a:ext cx="82296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0066"/>
                </a:solidFill>
                <a:uFillTx/>
                <a:latin typeface="Times New Roman"/>
                <a:ea typeface="Arial"/>
              </a:rPr>
              <a:t>Структура налоговых доходов </a:t>
            </a:r>
            <a:br>
              <a:rPr sz="3000"/>
            </a:br>
            <a:r>
              <a:rPr b="1" lang="en-GB" sz="3000" spc="-1" strike="noStrike" u="sng">
                <a:solidFill>
                  <a:srgbClr val="ff0066"/>
                </a:solidFill>
                <a:uFillTx/>
                <a:latin typeface="Times New Roman"/>
                <a:ea typeface="Arial"/>
              </a:rPr>
              <a:t>бюджета Комсомольского городского поселения поселения в 202</a:t>
            </a:r>
            <a:r>
              <a:rPr b="1" lang="ru-RU" sz="3000" spc="-1" strike="noStrike" u="sng">
                <a:solidFill>
                  <a:srgbClr val="ff0066"/>
                </a:solidFill>
                <a:uFillTx/>
                <a:latin typeface="Times New Roman"/>
                <a:ea typeface="Arial"/>
              </a:rPr>
              <a:t>1</a:t>
            </a:r>
            <a:r>
              <a:rPr b="1" lang="en-GB" sz="3000" spc="-1" strike="noStrike" u="sng">
                <a:solidFill>
                  <a:srgbClr val="ff0066"/>
                </a:solidFill>
                <a:uFillTx/>
                <a:latin typeface="Times New Roman"/>
                <a:ea typeface="Arial"/>
              </a:rPr>
              <a:t> г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492120" y="1927080"/>
            <a:ext cx="9082080" cy="4309920"/>
            <a:chOff x="492120" y="1927080"/>
            <a:chExt cx="9082080" cy="4309920"/>
          </a:xfrm>
        </p:grpSpPr>
        <p:graphicFrame>
          <p:nvGraphicFramePr>
            <p:cNvPr id="182" name="Object 3"/>
            <p:cNvGraphicFramePr/>
            <p:nvPr/>
          </p:nvGraphicFramePr>
          <p:xfrm>
            <a:off x="492120" y="1927080"/>
            <a:ext cx="9082080" cy="43099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83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2120" y="1927080"/>
                      <a:ext cx="9082080" cy="430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Text Box 4"/>
            <p:cNvSpPr/>
            <p:nvPr/>
          </p:nvSpPr>
          <p:spPr>
            <a:xfrm>
              <a:off x="492120" y="1927080"/>
              <a:ext cx="9082080" cy="43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ДИНАМИКА БЕЗВОЗМЕЗДНЫХ ПОСТУПЛЕНИЙ КОМСОМОЛЬСКОГО ГОРОДСКОГО  ПОСЕЛЕНИЯ за 201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  <a:ea typeface="Arial"/>
              </a:rPr>
              <a:t>7</a:t>
            </a:r>
            <a:r>
              <a:rPr b="1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-202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  <a:ea typeface="Arial"/>
              </a:rPr>
              <a:t>1</a:t>
            </a:r>
            <a:r>
              <a:rPr b="1" lang="en-GB" sz="2400" spc="-1" strike="noStrike">
                <a:solidFill>
                  <a:srgbClr val="800000"/>
                </a:solidFill>
                <a:latin typeface="Tahoma"/>
                <a:ea typeface="Arial"/>
              </a:rPr>
              <a:t> ГОДЫ (тыс.рублей)</a:t>
            </a:r>
            <a:r>
              <a:rPr b="1" lang="ar-SA" sz="2400" spc="-1" strike="noStrike">
                <a:solidFill>
                  <a:srgbClr val="800000"/>
                </a:solidFill>
                <a:latin typeface="Tahom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Группа 1"/>
          <p:cNvGrpSpPr/>
          <p:nvPr/>
        </p:nvGrpSpPr>
        <p:grpSpPr>
          <a:xfrm>
            <a:off x="620640" y="1986120"/>
            <a:ext cx="7750080" cy="4097160"/>
            <a:chOff x="620640" y="1986120"/>
            <a:chExt cx="7750080" cy="4097160"/>
          </a:xfrm>
        </p:grpSpPr>
        <p:graphicFrame>
          <p:nvGraphicFramePr>
            <p:cNvPr id="187" name="Object 3"/>
            <p:cNvGraphicFramePr/>
            <p:nvPr/>
          </p:nvGraphicFramePr>
          <p:xfrm>
            <a:off x="620640" y="1986120"/>
            <a:ext cx="7750080" cy="4097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88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0640" y="1986120"/>
                      <a:ext cx="7750080" cy="40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Text Box 4"/>
            <p:cNvSpPr/>
            <p:nvPr/>
          </p:nvSpPr>
          <p:spPr>
            <a:xfrm>
              <a:off x="620640" y="1986120"/>
              <a:ext cx="7750080" cy="40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Расходы бюджета Комсомольского городского поселения Чамзинского муниципального района по разделам классификации расходов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457200" y="1371600"/>
            <a:ext cx="8532720" cy="5286240"/>
            <a:chOff x="457200" y="1371600"/>
            <a:chExt cx="8532720" cy="5286240"/>
          </a:xfrm>
        </p:grpSpPr>
        <p:sp>
          <p:nvSpPr>
            <p:cNvPr id="192" name="Rectangle 3"/>
            <p:cNvSpPr/>
            <p:nvPr/>
          </p:nvSpPr>
          <p:spPr>
            <a:xfrm>
              <a:off x="457200" y="1371600"/>
              <a:ext cx="21805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Наименование расход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2640960" y="1371600"/>
              <a:ext cx="10202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201</a:t>
              </a:r>
              <a:r>
                <a:rPr b="1" lang="ru-RU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9</a:t>
              </a: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 г. (факт) тыс.руб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3664800" y="1371600"/>
              <a:ext cx="10206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</a:t>
              </a:r>
              <a:r>
                <a:rPr b="1" lang="ru-RU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</a:t>
              </a: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г.  (факт)</a:t>
              </a:r>
              <a:r>
                <a:rPr b="1" lang="ar-SA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тыс.руб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4688280" y="1371600"/>
              <a:ext cx="2045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2</a:t>
              </a:r>
              <a:r>
                <a:rPr b="1" lang="ru-RU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1</a:t>
              </a: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 год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6737400" y="1371600"/>
              <a:ext cx="11570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% исполнени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7897680" y="1371600"/>
              <a:ext cx="10886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рост(+)/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снижение(-) к 201</a:t>
              </a:r>
              <a:r>
                <a:rPr b="1" lang="ru-RU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9</a:t>
              </a: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г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4688280" y="1634760"/>
              <a:ext cx="95400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Пла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(тыс.руб.)</a:t>
              </a:r>
              <a:r>
                <a:rPr b="1" lang="ar-SA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5645160" y="1634760"/>
              <a:ext cx="108864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Фак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(тыс.руб.)</a:t>
              </a:r>
              <a:r>
                <a:rPr b="1" lang="ar-SA" sz="10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457200" y="217620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Расходы, всего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2640960" y="217620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31141,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3664800" y="217620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64737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88280" y="217620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77904,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5645160" y="21762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71876,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737400" y="217620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6,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7897680" y="21762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40734,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457200" y="2480400"/>
              <a:ext cx="2180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Общегосударственные вопрос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2640960" y="2480400"/>
              <a:ext cx="1020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5723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3664800" y="2480400"/>
              <a:ext cx="102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8626,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4688280" y="2480400"/>
              <a:ext cx="954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324,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5645160" y="2480400"/>
              <a:ext cx="10886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8580,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23"/>
            <p:cNvSpPr/>
            <p:nvPr/>
          </p:nvSpPr>
          <p:spPr>
            <a:xfrm>
              <a:off x="6737400" y="2480400"/>
              <a:ext cx="1157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2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24"/>
            <p:cNvSpPr/>
            <p:nvPr/>
          </p:nvSpPr>
          <p:spPr>
            <a:xfrm>
              <a:off x="7897680" y="2480400"/>
              <a:ext cx="10886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2857,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457200" y="287568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в %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26"/>
            <p:cNvSpPr/>
            <p:nvPr/>
          </p:nvSpPr>
          <p:spPr>
            <a:xfrm>
              <a:off x="2640960" y="287568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8,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3664800" y="287568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3,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4688280" y="287568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5,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5645160" y="287568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30"/>
            <p:cNvSpPr/>
            <p:nvPr/>
          </p:nvSpPr>
          <p:spPr>
            <a:xfrm>
              <a:off x="6737400" y="287568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Rectangle 31"/>
            <p:cNvSpPr/>
            <p:nvPr/>
          </p:nvSpPr>
          <p:spPr>
            <a:xfrm>
              <a:off x="7897680" y="287568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457200" y="3180600"/>
              <a:ext cx="21805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Национальная безопасность и правоохранительная 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2640960" y="3180600"/>
              <a:ext cx="10202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90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34"/>
            <p:cNvSpPr/>
            <p:nvPr/>
          </p:nvSpPr>
          <p:spPr>
            <a:xfrm>
              <a:off x="3664800" y="3180600"/>
              <a:ext cx="10206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3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35"/>
            <p:cNvSpPr/>
            <p:nvPr/>
          </p:nvSpPr>
          <p:spPr>
            <a:xfrm>
              <a:off x="4688280" y="3180600"/>
              <a:ext cx="954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28,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36"/>
            <p:cNvSpPr/>
            <p:nvPr/>
          </p:nvSpPr>
          <p:spPr>
            <a:xfrm>
              <a:off x="5645160" y="3180600"/>
              <a:ext cx="10886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28,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37"/>
            <p:cNvSpPr/>
            <p:nvPr/>
          </p:nvSpPr>
          <p:spPr>
            <a:xfrm>
              <a:off x="6737400" y="3180600"/>
              <a:ext cx="1157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00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7897680" y="3180600"/>
              <a:ext cx="10886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-61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39"/>
            <p:cNvSpPr/>
            <p:nvPr/>
          </p:nvSpPr>
          <p:spPr>
            <a:xfrm>
              <a:off x="457200" y="372960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в %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40"/>
            <p:cNvSpPr/>
            <p:nvPr/>
          </p:nvSpPr>
          <p:spPr>
            <a:xfrm>
              <a:off x="2640960" y="372960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0,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41"/>
            <p:cNvSpPr/>
            <p:nvPr/>
          </p:nvSpPr>
          <p:spPr>
            <a:xfrm>
              <a:off x="3664800" y="372960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0,0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42"/>
            <p:cNvSpPr/>
            <p:nvPr/>
          </p:nvSpPr>
          <p:spPr>
            <a:xfrm>
              <a:off x="4688280" y="372960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43"/>
            <p:cNvSpPr/>
            <p:nvPr/>
          </p:nvSpPr>
          <p:spPr>
            <a:xfrm>
              <a:off x="5645160" y="37296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44"/>
            <p:cNvSpPr/>
            <p:nvPr/>
          </p:nvSpPr>
          <p:spPr>
            <a:xfrm>
              <a:off x="6737400" y="372960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45"/>
            <p:cNvSpPr/>
            <p:nvPr/>
          </p:nvSpPr>
          <p:spPr>
            <a:xfrm>
              <a:off x="7897680" y="37296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46"/>
            <p:cNvSpPr/>
            <p:nvPr/>
          </p:nvSpPr>
          <p:spPr>
            <a:xfrm>
              <a:off x="457200" y="4034520"/>
              <a:ext cx="21805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Национальная оборон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47"/>
            <p:cNvSpPr/>
            <p:nvPr/>
          </p:nvSpPr>
          <p:spPr>
            <a:xfrm>
              <a:off x="2640960" y="4034520"/>
              <a:ext cx="1020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629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3664800" y="4034520"/>
              <a:ext cx="1020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673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4688280" y="4034520"/>
              <a:ext cx="95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713,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50"/>
            <p:cNvSpPr/>
            <p:nvPr/>
          </p:nvSpPr>
          <p:spPr>
            <a:xfrm>
              <a:off x="5645160" y="4034520"/>
              <a:ext cx="1088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713,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51"/>
            <p:cNvSpPr/>
            <p:nvPr/>
          </p:nvSpPr>
          <p:spPr>
            <a:xfrm>
              <a:off x="6737400" y="4034520"/>
              <a:ext cx="1157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52"/>
            <p:cNvSpPr/>
            <p:nvPr/>
          </p:nvSpPr>
          <p:spPr>
            <a:xfrm>
              <a:off x="7897680" y="4034520"/>
              <a:ext cx="1088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84,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53"/>
            <p:cNvSpPr/>
            <p:nvPr/>
          </p:nvSpPr>
          <p:spPr>
            <a:xfrm>
              <a:off x="457200" y="449460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в %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54"/>
            <p:cNvSpPr/>
            <p:nvPr/>
          </p:nvSpPr>
          <p:spPr>
            <a:xfrm>
              <a:off x="2640960" y="449460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,</a:t>
              </a: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55"/>
            <p:cNvSpPr/>
            <p:nvPr/>
          </p:nvSpPr>
          <p:spPr>
            <a:xfrm>
              <a:off x="3664800" y="449460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1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56"/>
            <p:cNvSpPr/>
            <p:nvPr/>
          </p:nvSpPr>
          <p:spPr>
            <a:xfrm>
              <a:off x="4688280" y="449460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57"/>
            <p:cNvSpPr/>
            <p:nvPr/>
          </p:nvSpPr>
          <p:spPr>
            <a:xfrm>
              <a:off x="5645160" y="44946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58"/>
            <p:cNvSpPr/>
            <p:nvPr/>
          </p:nvSpPr>
          <p:spPr>
            <a:xfrm>
              <a:off x="6737400" y="449460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59"/>
            <p:cNvSpPr/>
            <p:nvPr/>
          </p:nvSpPr>
          <p:spPr>
            <a:xfrm>
              <a:off x="7897680" y="449460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60"/>
            <p:cNvSpPr/>
            <p:nvPr/>
          </p:nvSpPr>
          <p:spPr>
            <a:xfrm>
              <a:off x="457200" y="4799160"/>
              <a:ext cx="21805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Национальная экономик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61"/>
            <p:cNvSpPr/>
            <p:nvPr/>
          </p:nvSpPr>
          <p:spPr>
            <a:xfrm>
              <a:off x="2640960" y="4799160"/>
              <a:ext cx="10202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6950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62"/>
            <p:cNvSpPr/>
            <p:nvPr/>
          </p:nvSpPr>
          <p:spPr>
            <a:xfrm>
              <a:off x="3664800" y="4799160"/>
              <a:ext cx="10206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27533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688280" y="4799160"/>
              <a:ext cx="9540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766,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5645160" y="4799160"/>
              <a:ext cx="1088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8248,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6737400" y="4799160"/>
              <a:ext cx="11570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84,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7897680" y="4799160"/>
              <a:ext cx="1088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298,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57200" y="540864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в %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2640960" y="540864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22,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3664800" y="540864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42,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4688280" y="540864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5,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71"/>
            <p:cNvSpPr/>
            <p:nvPr/>
          </p:nvSpPr>
          <p:spPr>
            <a:xfrm>
              <a:off x="5645160" y="540864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4</a:t>
              </a: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,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Rectangle 72"/>
            <p:cNvSpPr/>
            <p:nvPr/>
          </p:nvSpPr>
          <p:spPr>
            <a:xfrm>
              <a:off x="6737400" y="540864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7897680" y="540864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7200" y="5713200"/>
              <a:ext cx="21805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Жилищно-коммунальное хозяйство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Rectangle 75"/>
            <p:cNvSpPr/>
            <p:nvPr/>
          </p:nvSpPr>
          <p:spPr>
            <a:xfrm>
              <a:off x="2640960" y="5713200"/>
              <a:ext cx="10202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17469,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76"/>
            <p:cNvSpPr/>
            <p:nvPr/>
          </p:nvSpPr>
          <p:spPr>
            <a:xfrm>
              <a:off x="3664800" y="5713200"/>
              <a:ext cx="10206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25948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77"/>
            <p:cNvSpPr/>
            <p:nvPr/>
          </p:nvSpPr>
          <p:spPr>
            <a:xfrm>
              <a:off x="4688280" y="5713200"/>
              <a:ext cx="954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56125,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78"/>
            <p:cNvSpPr/>
            <p:nvPr/>
          </p:nvSpPr>
          <p:spPr>
            <a:xfrm>
              <a:off x="5645160" y="5713200"/>
              <a:ext cx="10886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52484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79"/>
            <p:cNvSpPr/>
            <p:nvPr/>
          </p:nvSpPr>
          <p:spPr>
            <a:xfrm>
              <a:off x="6737400" y="5713200"/>
              <a:ext cx="1157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7,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80"/>
            <p:cNvSpPr/>
            <p:nvPr/>
          </p:nvSpPr>
          <p:spPr>
            <a:xfrm>
              <a:off x="7897680" y="5713200"/>
              <a:ext cx="10886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</a:t>
              </a:r>
              <a:r>
                <a:rPr b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35014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81"/>
            <p:cNvSpPr/>
            <p:nvPr/>
          </p:nvSpPr>
          <p:spPr>
            <a:xfrm>
              <a:off x="457200" y="6352920"/>
              <a:ext cx="2180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в %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82"/>
            <p:cNvSpPr/>
            <p:nvPr/>
          </p:nvSpPr>
          <p:spPr>
            <a:xfrm>
              <a:off x="2640960" y="6352920"/>
              <a:ext cx="102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56,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83"/>
            <p:cNvSpPr/>
            <p:nvPr/>
          </p:nvSpPr>
          <p:spPr>
            <a:xfrm>
              <a:off x="3664800" y="6352920"/>
              <a:ext cx="102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40,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84"/>
            <p:cNvSpPr/>
            <p:nvPr/>
          </p:nvSpPr>
          <p:spPr>
            <a:xfrm>
              <a:off x="4688280" y="6352920"/>
              <a:ext cx="954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87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5645160" y="635292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88,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86"/>
            <p:cNvSpPr/>
            <p:nvPr/>
          </p:nvSpPr>
          <p:spPr>
            <a:xfrm>
              <a:off x="6737400" y="6352920"/>
              <a:ext cx="115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87"/>
            <p:cNvSpPr/>
            <p:nvPr/>
          </p:nvSpPr>
          <p:spPr>
            <a:xfrm>
              <a:off x="7897680" y="6352920"/>
              <a:ext cx="108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88"/>
            <p:cNvSpPr/>
            <p:nvPr/>
          </p:nvSpPr>
          <p:spPr>
            <a:xfrm>
              <a:off x="264096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89"/>
            <p:cNvSpPr/>
            <p:nvPr/>
          </p:nvSpPr>
          <p:spPr>
            <a:xfrm>
              <a:off x="366480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90"/>
            <p:cNvSpPr/>
            <p:nvPr/>
          </p:nvSpPr>
          <p:spPr>
            <a:xfrm>
              <a:off x="468828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91"/>
            <p:cNvSpPr/>
            <p:nvPr/>
          </p:nvSpPr>
          <p:spPr>
            <a:xfrm>
              <a:off x="5645160" y="1634760"/>
              <a:ext cx="0" cy="501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92"/>
            <p:cNvSpPr/>
            <p:nvPr/>
          </p:nvSpPr>
          <p:spPr>
            <a:xfrm>
              <a:off x="673740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93"/>
            <p:cNvSpPr/>
            <p:nvPr/>
          </p:nvSpPr>
          <p:spPr>
            <a:xfrm>
              <a:off x="789768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94"/>
            <p:cNvSpPr/>
            <p:nvPr/>
          </p:nvSpPr>
          <p:spPr>
            <a:xfrm>
              <a:off x="4688280" y="1634760"/>
              <a:ext cx="2045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95"/>
            <p:cNvSpPr/>
            <p:nvPr/>
          </p:nvSpPr>
          <p:spPr>
            <a:xfrm>
              <a:off x="457200" y="21762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96"/>
            <p:cNvSpPr/>
            <p:nvPr/>
          </p:nvSpPr>
          <p:spPr>
            <a:xfrm>
              <a:off x="457200" y="24804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97"/>
            <p:cNvSpPr/>
            <p:nvPr/>
          </p:nvSpPr>
          <p:spPr>
            <a:xfrm>
              <a:off x="457200" y="287568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98"/>
            <p:cNvSpPr/>
            <p:nvPr/>
          </p:nvSpPr>
          <p:spPr>
            <a:xfrm>
              <a:off x="457200" y="31806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99"/>
            <p:cNvSpPr/>
            <p:nvPr/>
          </p:nvSpPr>
          <p:spPr>
            <a:xfrm>
              <a:off x="457200" y="37296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100"/>
            <p:cNvSpPr/>
            <p:nvPr/>
          </p:nvSpPr>
          <p:spPr>
            <a:xfrm>
              <a:off x="457200" y="403452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101"/>
            <p:cNvSpPr/>
            <p:nvPr/>
          </p:nvSpPr>
          <p:spPr>
            <a:xfrm>
              <a:off x="457200" y="44946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102"/>
            <p:cNvSpPr/>
            <p:nvPr/>
          </p:nvSpPr>
          <p:spPr>
            <a:xfrm>
              <a:off x="457200" y="479916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103"/>
            <p:cNvSpPr/>
            <p:nvPr/>
          </p:nvSpPr>
          <p:spPr>
            <a:xfrm>
              <a:off x="457200" y="540864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Line 104"/>
            <p:cNvSpPr/>
            <p:nvPr/>
          </p:nvSpPr>
          <p:spPr>
            <a:xfrm>
              <a:off x="457200" y="57132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105"/>
            <p:cNvSpPr/>
            <p:nvPr/>
          </p:nvSpPr>
          <p:spPr>
            <a:xfrm>
              <a:off x="457200" y="635292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106"/>
            <p:cNvSpPr/>
            <p:nvPr/>
          </p:nvSpPr>
          <p:spPr>
            <a:xfrm>
              <a:off x="457200" y="1371600"/>
              <a:ext cx="0" cy="528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107"/>
            <p:cNvSpPr/>
            <p:nvPr/>
          </p:nvSpPr>
          <p:spPr>
            <a:xfrm>
              <a:off x="8989920" y="1371600"/>
              <a:ext cx="0" cy="801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108"/>
            <p:cNvSpPr/>
            <p:nvPr/>
          </p:nvSpPr>
          <p:spPr>
            <a:xfrm>
              <a:off x="8989920" y="2176200"/>
              <a:ext cx="0" cy="447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109"/>
            <p:cNvSpPr/>
            <p:nvPr/>
          </p:nvSpPr>
          <p:spPr>
            <a:xfrm>
              <a:off x="457200" y="137160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110"/>
            <p:cNvSpPr/>
            <p:nvPr/>
          </p:nvSpPr>
          <p:spPr>
            <a:xfrm>
              <a:off x="457200" y="6657840"/>
              <a:ext cx="852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Расходы бюджета Комсомольского городского поселения Чамзинского муниципального района по разделам классификации рас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2"/>
          <p:cNvGrpSpPr/>
          <p:nvPr/>
        </p:nvGrpSpPr>
        <p:grpSpPr>
          <a:xfrm>
            <a:off x="304920" y="1600200"/>
            <a:ext cx="8609040" cy="2924280"/>
            <a:chOff x="304920" y="1600200"/>
            <a:chExt cx="8609040" cy="2924280"/>
          </a:xfrm>
        </p:grpSpPr>
        <p:sp>
          <p:nvSpPr>
            <p:cNvPr id="302" name="Rectangle 3"/>
            <p:cNvSpPr/>
            <p:nvPr/>
          </p:nvSpPr>
          <p:spPr>
            <a:xfrm>
              <a:off x="304920" y="1600200"/>
              <a:ext cx="219960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Наименование расходо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4"/>
            <p:cNvSpPr/>
            <p:nvPr/>
          </p:nvSpPr>
          <p:spPr>
            <a:xfrm>
              <a:off x="2507400" y="1600200"/>
              <a:ext cx="102996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201</a:t>
              </a:r>
              <a:r>
                <a:rPr b="1" lang="ru-RU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9</a:t>
              </a: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 г. (факт) тыс.руб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>
              <a:off x="3540960" y="1600200"/>
              <a:ext cx="102996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</a:t>
              </a:r>
              <a:r>
                <a:rPr b="1" lang="ru-RU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</a:t>
              </a: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 г.  (факт)</a:t>
              </a:r>
              <a:r>
                <a:rPr b="1" lang="ar-SA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тыс.руб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4520" y="1600200"/>
              <a:ext cx="166968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202</a:t>
              </a:r>
              <a:r>
                <a:rPr b="1" lang="ru-RU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1</a:t>
              </a: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Times New Roman"/>
                </a:rPr>
                <a:t> год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6247440" y="1600200"/>
              <a:ext cx="91080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% исполнени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7161480" y="1600200"/>
              <a:ext cx="174888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рост(+)/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Verdana"/>
                  <a:ea typeface="Arial"/>
                </a:rPr>
                <a:t>снижение(-) к 2018г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304920" y="2679120"/>
              <a:ext cx="219960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Охрана окружающей сред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2507400" y="2679120"/>
              <a:ext cx="102996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Rectangle 11"/>
            <p:cNvSpPr/>
            <p:nvPr/>
          </p:nvSpPr>
          <p:spPr>
            <a:xfrm>
              <a:off x="3540960" y="2679120"/>
              <a:ext cx="102996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1622,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4574520" y="2679120"/>
              <a:ext cx="90756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600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485320" y="2679120"/>
              <a:ext cx="75852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475,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6247440" y="2679120"/>
              <a:ext cx="91080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2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7161480" y="2679120"/>
              <a:ext cx="174888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1475,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16"/>
            <p:cNvSpPr/>
            <p:nvPr/>
          </p:nvSpPr>
          <p:spPr>
            <a:xfrm>
              <a:off x="304920" y="3339000"/>
              <a:ext cx="2199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0000"/>
                  </a:solidFill>
                  <a:latin typeface="Tahoma"/>
                  <a:ea typeface="Arial"/>
                </a:rPr>
                <a:t>в 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2507400" y="3339000"/>
              <a:ext cx="1029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8"/>
            <p:cNvSpPr/>
            <p:nvPr/>
          </p:nvSpPr>
          <p:spPr>
            <a:xfrm>
              <a:off x="3540960" y="3339000"/>
              <a:ext cx="1029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4574520" y="3339000"/>
              <a:ext cx="9075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5485320" y="333900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21"/>
            <p:cNvSpPr/>
            <p:nvPr/>
          </p:nvSpPr>
          <p:spPr>
            <a:xfrm>
              <a:off x="6247440" y="3339000"/>
              <a:ext cx="9108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22"/>
            <p:cNvSpPr/>
            <p:nvPr/>
          </p:nvSpPr>
          <p:spPr>
            <a:xfrm>
              <a:off x="7161480" y="3339000"/>
              <a:ext cx="174888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304920" y="3656520"/>
              <a:ext cx="2199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Социальная политик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24"/>
            <p:cNvSpPr/>
            <p:nvPr/>
          </p:nvSpPr>
          <p:spPr>
            <a:xfrm>
              <a:off x="2507400" y="3656520"/>
              <a:ext cx="10299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271,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3540960" y="3656520"/>
              <a:ext cx="10299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3</a:t>
              </a: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10,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26"/>
            <p:cNvSpPr/>
            <p:nvPr/>
          </p:nvSpPr>
          <p:spPr>
            <a:xfrm>
              <a:off x="4574520" y="3656520"/>
              <a:ext cx="9075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344,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5485320" y="3656520"/>
              <a:ext cx="7585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344,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28"/>
            <p:cNvSpPr/>
            <p:nvPr/>
          </p:nvSpPr>
          <p:spPr>
            <a:xfrm>
              <a:off x="6247440" y="3656520"/>
              <a:ext cx="9108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100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7161480" y="3656520"/>
              <a:ext cx="1748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+73,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30"/>
            <p:cNvSpPr/>
            <p:nvPr/>
          </p:nvSpPr>
          <p:spPr>
            <a:xfrm>
              <a:off x="304920" y="4173840"/>
              <a:ext cx="219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в %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2507400" y="4173840"/>
              <a:ext cx="10299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0,</a:t>
              </a: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32"/>
            <p:cNvSpPr/>
            <p:nvPr/>
          </p:nvSpPr>
          <p:spPr>
            <a:xfrm>
              <a:off x="3540960" y="4173840"/>
              <a:ext cx="10299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Arial"/>
                </a:rPr>
                <a:t>0,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4574520" y="4173840"/>
              <a:ext cx="907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34"/>
            <p:cNvSpPr/>
            <p:nvPr/>
          </p:nvSpPr>
          <p:spPr>
            <a:xfrm>
              <a:off x="5485320" y="4173840"/>
              <a:ext cx="75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0,</a:t>
              </a:r>
              <a:r>
                <a:rPr b="1" i="1" lang="ru-RU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Rectangle 35"/>
            <p:cNvSpPr/>
            <p:nvPr/>
          </p:nvSpPr>
          <p:spPr>
            <a:xfrm>
              <a:off x="6247440" y="4173840"/>
              <a:ext cx="9108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36"/>
            <p:cNvSpPr/>
            <p:nvPr/>
          </p:nvSpPr>
          <p:spPr>
            <a:xfrm>
              <a:off x="7161480" y="4173840"/>
              <a:ext cx="1748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00"/>
                  </a:solidFill>
                  <a:latin typeface="Tahoma"/>
                  <a:ea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250740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>
              <a:off x="354096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>
              <a:off x="457452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>
              <a:off x="5485320" y="2679120"/>
              <a:ext cx="0" cy="184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Line 41"/>
            <p:cNvSpPr/>
            <p:nvPr/>
          </p:nvSpPr>
          <p:spPr>
            <a:xfrm>
              <a:off x="624744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Line 42"/>
            <p:cNvSpPr/>
            <p:nvPr/>
          </p:nvSpPr>
          <p:spPr>
            <a:xfrm>
              <a:off x="716148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Line 43"/>
            <p:cNvSpPr/>
            <p:nvPr/>
          </p:nvSpPr>
          <p:spPr>
            <a:xfrm>
              <a:off x="304920" y="267912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Line 44"/>
            <p:cNvSpPr/>
            <p:nvPr/>
          </p:nvSpPr>
          <p:spPr>
            <a:xfrm>
              <a:off x="304920" y="333900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Line 45"/>
            <p:cNvSpPr/>
            <p:nvPr/>
          </p:nvSpPr>
          <p:spPr>
            <a:xfrm>
              <a:off x="304920" y="365652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46"/>
            <p:cNvSpPr/>
            <p:nvPr/>
          </p:nvSpPr>
          <p:spPr>
            <a:xfrm>
              <a:off x="304920" y="417384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47"/>
            <p:cNvSpPr/>
            <p:nvPr/>
          </p:nvSpPr>
          <p:spPr>
            <a:xfrm>
              <a:off x="30492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Line 48"/>
            <p:cNvSpPr/>
            <p:nvPr/>
          </p:nvSpPr>
          <p:spPr>
            <a:xfrm>
              <a:off x="8913960" y="160020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Line 49"/>
            <p:cNvSpPr/>
            <p:nvPr/>
          </p:nvSpPr>
          <p:spPr>
            <a:xfrm>
              <a:off x="304920" y="160020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Line 50"/>
            <p:cNvSpPr/>
            <p:nvPr/>
          </p:nvSpPr>
          <p:spPr>
            <a:xfrm>
              <a:off x="304920" y="4524480"/>
              <a:ext cx="860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826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  <a:ea typeface="Arial"/>
              </a:rPr>
              <a:t>Структура расходной части бюджета Комсомольского городского поселения Чамзинского муниципального района в 202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  <a:ea typeface="Arial"/>
              </a:rPr>
              <a:t>1</a:t>
            </a:r>
            <a:r>
              <a:rPr b="1" lang="en-GB" sz="2800" spc="-1" strike="noStrike">
                <a:solidFill>
                  <a:srgbClr val="660066"/>
                </a:solidFill>
                <a:latin typeface="Tahoma"/>
                <a:ea typeface="Arial"/>
              </a:rPr>
              <a:t>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 2"/>
          <p:cNvGrpSpPr/>
          <p:nvPr/>
        </p:nvGrpSpPr>
        <p:grpSpPr>
          <a:xfrm>
            <a:off x="523800" y="2133720"/>
            <a:ext cx="8129520" cy="4108320"/>
            <a:chOff x="523800" y="2133720"/>
            <a:chExt cx="8129520" cy="4108320"/>
          </a:xfrm>
        </p:grpSpPr>
        <p:graphicFrame>
          <p:nvGraphicFramePr>
            <p:cNvPr id="352" name="Object 3"/>
            <p:cNvGraphicFramePr/>
            <p:nvPr/>
          </p:nvGraphicFramePr>
          <p:xfrm>
            <a:off x="523800" y="2133720"/>
            <a:ext cx="8129520" cy="410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3800" y="2133720"/>
                      <a:ext cx="8129520" cy="41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Text Box 4"/>
            <p:cNvSpPr/>
            <p:nvPr/>
          </p:nvSpPr>
          <p:spPr>
            <a:xfrm>
              <a:off x="523800" y="2133720"/>
              <a:ext cx="8129520" cy="41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d</dc:creator>
  <dc:description/>
  <dc:language>en-US</dc:language>
  <cp:lastModifiedBy>www</cp:lastModifiedBy>
  <dcterms:modified xsi:type="dcterms:W3CDTF">2022-05-05T09:50:24Z</dcterms:modified>
  <cp:revision>25</cp:revision>
  <dc:subject/>
  <dc:title>PowerPoint Presentation</dc:title>
</cp:coreProperties>
</file>